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624-E107-4A2B-8A96-ACE2F993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97C-80D6-437E-A2BA-4F9116E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60C-8650-4852-B2A4-685AAE84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CC9-1F45-4CBD-8809-3432528B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0DC-8F67-4A8A-A487-0437C76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4D5-8847-4D44-BB3F-8AF376A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049-BA56-4F7E-9F7F-D2DE427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E29-5770-4354-BBA6-C8123757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21F-510A-4A3A-BD8C-9D737D92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192-3922-4A54-81DC-232F69C4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A21-CBB8-4262-BC63-DDFD2C3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F7A-957D-4C82-9524-D0040EF7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0A35-B740-4746-8F6D-87B7384FA01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Mt. St. Hele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t. St. Helen's, May 1980 (The U.S.A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upted on the morning of May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980, after being inactive for over 120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the subduction of the oceanic Juan de Fuca plate under the continental North American plate, on the West Coast of the United St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cano forms part of the Rockies Range of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 It Happe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fter minor earthquakes and a small eruption during March, scientists carefully monitored the mountai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y the beginning of May a bulge had developed on the North side of the mountai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activity forced the Local Authorities to create 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"Red Zone"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round the volcano, from where any residents were evacuated, and no one was allowed to re-ent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saved a lot of people from the disaster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t approximately 8.30 a.m. on the 18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May, the volcano erupted a small amount of ash and stem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n, a couple of minutes later, something occurred that nobody could have predict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n earthquake caused the bulge to collapse down the side of the mountai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released the full power of the explosive gases behind as the mountain literally blew its own side off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aterial from the massive landslide sped down the mountain, filling Spirit Lake and then racing on as a mud flow (it had mixed with the lake water) down the Toutle River and Kalama Riv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explosions from the side of the mountain sent a speeding cloud of gas, steam and dust across the ground to the North of the volcano, flattening everything in its path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trees of the forests around the mountain were toppled as if they were matchsticks, with the majority of them facing in the same direc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explosions also instantly melted all of the snow on the mountain, adding to the mudflows that were racing down the mountain and into the rive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flows took all with them, including huge trees and even bridg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uring the remainder of the day huge gas and ash eruptions occurred, spreading a massive cloud of ash that took 7 days to entirely circle the worl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wn of Yakima, 120 miles away, was so badly affected by the dust and ash that residents could only go outside if they wore facemask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ountain managed to reduce its height by nearly 400 metres and blew an amphitheatre shape hole in its side, 3km long and 500 metres wid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61 people were killed by the eruption, mainly by the poisonous gases, but also by being caught up in the massively swollen river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o wildlife, either plants or trees, survived within the 25km blast zon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ever vegetation has already made great strides to re-colonise the are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5:06:18Z</dcterms:created>
  <dc:creator>Dell_02</dc:creator>
  <dc:description/>
  <dc:language>en-US</dc:language>
  <cp:lastModifiedBy>Dell_02</cp:lastModifiedBy>
  <dcterms:modified xsi:type="dcterms:W3CDTF">2011-01-26T05:14:41Z</dcterms:modified>
  <cp:revision>1</cp:revision>
  <dc:subject/>
  <dc:title>Mt. St. Helens</dc:title>
</cp:coreProperties>
</file>